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BF30-66CF-4818-87B0-ADEFD875A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598D-2247-4E4A-A48E-6078CDB1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79D6-5129-4692-B09E-61C15A80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D805-AA67-4E9A-ADD8-FDD729B4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E2213-59A6-48D8-B416-4E7E4CCC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07B46-F974-44F1-B116-D5940217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5F54C-46B1-473F-AAF7-89EFA242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5C44E-50A7-4F42-909E-E0F471CF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8A6F2-1F20-46B5-A91F-B9162553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A61DF-7D09-4F1A-AA2E-B2AEDE97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3C280-692F-4539-9382-EBA4CAEC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5878-7A31-4FBC-81D6-38851E7B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C83B9-A1B9-4851-86A9-D626FEE1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7B5DF-1B38-4254-8121-B4BEAE48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6B6D4-F96B-40F2-A132-15E67C0D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0298A-C84F-44FE-B6BF-1F3C7CCDC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E24D6-EAB9-46DC-BA44-15CFE9881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B49E-8A0A-4E2C-89C5-5A8FA9DC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BCE1-7FDE-41EE-836D-7FCA84EF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7AF5-8606-4B13-8DFE-1789FBF0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323F-EB08-4C0C-828F-17D00AED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7074-C84E-44F2-93ED-EB181BBB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1037-243D-45FD-A813-DD474A4F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E6C2-5E1B-49E8-8048-3B4F8ABC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3624-9550-483B-93F4-3A1C353B08BD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1DA6-F0BB-4B06-A6E4-EF83A73732F2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14400" y="965160"/>
            <a:ext cx="762012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Monotype Corsiva"/>
              </a:rPr>
              <a:t>Lesson Fourte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Monotype Corsiva"/>
              </a:rPr>
              <a:t>Do you speak English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80880" y="0"/>
            <a:ext cx="83059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sk and answer the questions in pai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did you have last yea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part of France were you i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d you been in a small villa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 did you drive on 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waved to you on the w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did he ask you fo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did you say good morning to hi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language did you spea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d your passenger reply in Frenc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many words of French do you kno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d you speak to him during the journe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did he suddenly say someth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did he ask 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380880"/>
            <a:ext cx="82296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tell the sto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using experience---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ft---small village---south of France---dr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the way---man waved---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opped---asked---li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o---car---good morning---Fre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---same 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w words---not---any Fre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ither---spoke---jour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arly---town---suddenly’---speak English?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arnt---English him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293760"/>
            <a:ext cx="8458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d an amusing  experienc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ast year. After I had left a small villag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 the south o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rance, I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rove 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o the next town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n the wa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a young man waved to me. I stopped and 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sked me for a lif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As soon as he had got into the car, I said good morning to him in French and he 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replied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in the same language. 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Apart from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 few words, I do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no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know any French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 al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Neither of us spoke during the journey. I had nearly reached the town, 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when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the young man suddenly said, very slowly, ‘Do you speak English?’ As I soon learnt, he was English himself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lastslide"/>
          </p:cNvPr>
          <p:cNvSpPr/>
          <p:nvPr/>
        </p:nvSpPr>
        <p:spPr>
          <a:xfrm>
            <a:off x="8077320" y="57913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09480" y="228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ply &amp; 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8380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I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都是不及物动词时，可以互换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3623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都跟宾语从句时，可以互换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28195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 answered / replied that he was not com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4290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III. answer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是及物动词；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reply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是不及物动词，带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语时，后面要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4267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He answered / replied to the question / 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m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5181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. Have you replied to / answered his let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3716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I asked him where to go, but he didn’t answer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rep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7924680" y="59436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09480" y="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apart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e3ff"/>
                </a:solidFill>
                <a:latin typeface="Arial"/>
              </a:rPr>
              <a:t>= except for / besides </a:t>
            </a:r>
            <a:r>
              <a:rPr b="1" lang="zh-CN" sz="2800" spc="-1" strike="noStrike">
                <a:solidFill>
                  <a:srgbClr val="e3e3ff"/>
                </a:solidFill>
                <a:latin typeface="Arial"/>
              </a:rPr>
              <a:t>除去，除……之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1066680"/>
            <a:ext cx="744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除一辆轿车之外，我想不起我还需要什么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1676520"/>
            <a:ext cx="85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 can’t think of anything I need apart from a c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362320"/>
            <a:ext cx="585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他除了鼻子以外，哪儿都很好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304812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art from his nose, he is quite good-look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3733920"/>
            <a:ext cx="78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他除了脸部和双手受伤以外，两条腿也断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44197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art from the injuries to his face and hand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 broke both le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8305920" y="5791320"/>
            <a:ext cx="533160" cy="30456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4572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Sb had (just) done sth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Sb. was doing sth.                             When sb. else did s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Sb. was going/about to do s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228600"/>
            <a:ext cx="68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Arial"/>
              </a:rPr>
              <a:t>｝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905120"/>
            <a:ext cx="53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正要走，电话铃突然响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3623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 was just about  to leave when the teleph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ddenly ra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3200400"/>
            <a:ext cx="65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们正在吃饭，一个朋友走了进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3733920"/>
            <a:ext cx="87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e were having our dinner when a friend came 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267080"/>
            <a:ext cx="66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他们刚刚干完活，天就下起雨来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48006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y had just finished their work when it beg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 r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8305920" y="60199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0"/>
            <a:ext cx="8839080" cy="88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Monotype Corsiva"/>
              </a:rPr>
              <a:t>Summary wri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ffff"/>
                </a:solidFill>
                <a:latin typeface="Monotype Corsiva"/>
              </a:rPr>
              <a:t>The writer gave a lift to a young man in the south of France last year. They greeted each other in French. Apart from a few words, the writer doesn’t speak any French. They sat in silence. At the end of the journey the young man asked, ‘Do you speak English?’ He was English himself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</a:t>
            </a:r>
            <a:r>
              <a:rPr b="1" lang="zh-CN" sz="4400" spc="-1" strike="noStrike">
                <a:solidFill>
                  <a:srgbClr val="ffffff"/>
                </a:solidFill>
                <a:latin typeface="Monotype Corsiva"/>
              </a:rPr>
              <a:t>(55 word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6T09:27:27Z</dcterms:created>
  <dc:creator/>
  <dc:description/>
  <dc:language>en-US</dc:language>
  <cp:lastModifiedBy>史流</cp:lastModifiedBy>
  <dcterms:modified xsi:type="dcterms:W3CDTF">2002-08-05T03:12:12Z</dcterms:modified>
  <cp:revision>18</cp:revision>
  <dc:subject/>
  <dc:title>幻灯片 1</dc:title>
</cp:coreProperties>
</file>